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26DD-7B41-4C42-AAFC-A6D13952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8062-251E-4DA0-A805-3DFC142E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273-7AF8-442C-AE48-0613E40D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1F8-53AE-4068-8E07-F7E83477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458-9CCD-42FD-9307-F43124EF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061-8866-460D-972A-EC4E92A0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C954-360B-4DD9-B746-6929137A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753-BC65-4A08-9A61-EBD5BAFD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562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B45-1E81-4FC1-9D27-6427B421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A4B-B5B8-490A-9901-498A69D4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EF8-809F-4838-B0B3-CF923851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0EC6-AE8D-45D8-B639-96CA7258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8704-3677-4916-8B0C-B2CB59D5C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228600" y="228600"/>
          <a:ext cx="8763120" cy="5294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876312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welve in the Be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were 12 in the bed and the little one said, “Roll over, roll over.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they all rolled over and </a:t>
            </a: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child’s 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ell out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were 11 in the bed and the little one said, “Roll over, roll over.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they all rolled over and </a:t>
            </a: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child’s 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ell out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were 10 in the bed and the little one said, “Roll over, roll over.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they all rolled over and </a:t>
            </a: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child’s 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ell out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867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was 1 in the bed and </a:t>
            </a: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Child’s 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aid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Good Night!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5:20:40Z</dcterms:created>
  <dc:creator>Patti Porto</dc:creator>
  <dc:description/>
  <dc:language>en-US</dc:language>
  <cp:lastModifiedBy>Patti Porto</cp:lastModifiedBy>
  <dcterms:modified xsi:type="dcterms:W3CDTF">2008-01-24T15:31:17Z</dcterms:modified>
  <cp:revision>2</cp:revision>
  <dc:subject/>
  <dc:title>Twelve in a Bed</dc:title>
</cp:coreProperties>
</file>